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009-E237-41E7-A147-2936E7DA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ADD-998D-4326-BB47-319600EF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9BD27-3764-4F55-BF8E-CA6F36A9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19D3C-7A33-4957-BE7D-A2E063EB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0DD65-6E0F-4B21-9A5E-50D53866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7F3E1-BF36-4BD8-926C-D620ED7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493D0-36C1-4CA1-BC91-547037B2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7289C-E636-43A6-BF7B-BEEFD6CB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FD805-3D6A-49ED-9E26-329090AD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C0491-71D7-4724-A8D2-BD8A6AFB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DA39E-86D2-4D07-9864-890B28D1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E8287-64F9-42FF-A903-67716A58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5C7-516F-4A34-B514-72434973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4E7ED-A75B-40A7-BE0E-33156C68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30C89-9547-42CE-B3A7-54549FA9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FC750-3D50-44E0-BCB7-FFF0D332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0DFC0-B628-477A-B821-36270546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FF935-2762-44F2-AB20-E7D05643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96B35-C007-49ED-8B63-C9E256F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FC012-30F2-4427-9FDE-E612058E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4D66C-7759-40CF-BC51-B0418159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C0E86-4DA2-49E3-94FD-A66CF388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C2220-B06E-4CD3-AE37-45A5AC7D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407-5DE2-4BA1-8660-70C345D1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72BF6-D468-4A86-BAAA-6C292861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54107-5904-4CE9-B449-BE7763D0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15009-5734-4A50-A26F-9990B5FF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33D40-A11C-440D-A70A-CC071ED8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0BF0B-02A6-4BF6-A298-53F9A8F7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B1EE2-18AD-44F2-8385-0DC3F823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D27A0-6AB8-4057-AC13-D3C0C939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EEB63-E0AB-4967-B060-DA30389C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8BD7C-ADE3-49C4-BDBC-FC6CFE44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F156D-EAE4-4585-904C-FA13C9B6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5137-0B0B-4247-B6DE-BE1FB51E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7C746-28A8-4393-82CF-F9443FA2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7C62B-D2D2-4A33-8A75-541BCDC7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886BC-BF69-4384-8A34-BBF47F99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E2DCE-7999-4556-8225-92B9DEC6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B1226-1EB7-4183-8C78-6248846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AA6C2-C5C1-451F-963C-78BC1314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69052-F453-4636-B87D-8946A9D9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22982-7BF2-48E2-A781-220100D1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BB387-D389-459B-B9A1-FE4867DA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017CC-6268-4192-B493-B79AD625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731C-90B7-42D6-81ED-DA9103A1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3592B-2109-4164-9D28-3D00D7E7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06E50-01FB-4CE1-AD72-A45B905F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556C5-B3E1-440E-9FE2-4CBD9F6B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136E6C-77DB-444D-98F7-81E72CEE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FFD25-8AE7-4352-83E1-A7B64169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3C211-2385-4597-84BD-9A3431FF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B46BA-6AB6-42A7-95BC-97B93209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3AE73-F585-46E9-8986-9AFB7C5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F23AE-285F-40A1-BEDE-A26C6D34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E9C51-9FE8-4300-8B19-05A77A67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419A-26CB-46B8-A127-A868556C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F0ACC-7B75-46D2-B8B7-5BD99E92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BD40F-BC86-4138-8C69-6640A11B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2CE5A-F10C-4FBA-B92C-BC373528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CF638-1E05-4C93-9A0F-9A822AE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CDB86-ABC8-4481-8E5D-3DA52652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A08F1-D4BB-4B37-9259-FE0C0992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B913BF-EAB6-4D55-A44C-F842AD30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09648-63D1-4BA5-9ED9-9074A63B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59D6C-0A11-458B-A139-060156DB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126FA-4115-421A-B9CE-29BCDF07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58D5-21C3-4EE9-AA75-82F01183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A844A-B6AE-4E1A-869E-16129356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05715-1A08-4824-B04D-85F9F80E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B21CD-CA0D-4C29-8661-7800059D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E7C76-2BC0-469E-BFBC-57A1023F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833D6-245D-4DAD-B97F-30B87F2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57331-A3D9-4420-B967-1CF4F74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DDB0D-D594-487D-96B3-AC069E4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7479FA-DD0F-4C6F-B4E7-F27ABBA8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D8E50-587F-45E8-B3AC-B297CA34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C2743-1239-4914-855B-AD717A20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8BBA-AACA-46FC-A036-FDEF854D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13B85-C1CA-48AA-AEF1-043E7866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04E43-5D7A-4B3B-AD77-840B6CC1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1137B-E93E-4529-81F9-A4B6B720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56534-AD74-4FD1-A09E-0AB680D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A9EC3E-D710-4E14-90AA-2ADA434A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F4A2B-E4D3-46F4-B4CF-A1885F48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C8E07-6BFE-4550-AEC6-7F82B975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9AE1D-CE46-4DDE-85EA-464443A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BB39C-7302-42E5-BA7E-71BD6E6A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941A5F-C791-4BB7-B781-5E6B45F3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365-32F5-4D3B-B75D-538934D9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424AB-21AB-49BC-861B-329A7902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D4D4C-15BC-4343-887D-11F33912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F406F-BB68-4A45-924A-46391F14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2CEE9-C868-4319-960A-EFB0CBF8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7281CC-7045-4502-BB75-4C9B96DA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90230-DEE4-4A5B-A4A6-3BECAA7F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8E22A-BC22-4C17-8CF4-D614299D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C2827-EC65-4EBE-BC7D-EC95A44A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D1B19-AA93-4F68-A769-14D5CC39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93C16-CC0F-4630-AB20-DC67B0C0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3DF3-1282-4B53-B3DE-4B2A1B7C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958E2-9694-403E-8742-10A46FC6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9CD4F-DD30-47BA-BBAA-4C9E16ED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E4D3E-11CC-433D-B95F-DBB2D08C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7595EB-5131-4AE1-AC8C-8A8EB219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76ED9-BDA5-425A-80FF-7C6CB1E8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D40AA-5C36-435C-BF61-44C45002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D8A6A6-CCDB-4313-99FF-036F8E07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9A816-CF75-4C3C-8264-749CC03D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F4689-7D0F-42FD-9745-2372DFFD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86761-2259-4FF6-92D8-CAA02B6F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B7F-A3D1-4DBF-B1F7-B15C6DAD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A9A4-AE33-4186-991C-4A517B97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33DC6-FF63-431C-B336-1645A3CD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275C9-F22C-40A9-ABB6-B15E282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DE5E26-1A23-47BE-95AB-44915968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8475D-0D99-4D9E-87B0-7A982086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8F32A-76FB-4FD5-9C9E-F46642F6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13993-3FD9-49FB-A1ED-96492570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BFA12-832E-4534-9151-16ED5411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10F52-6476-43DC-B2B3-4757C1C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17B69-6B23-4702-BC90-F63A0415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B315B-D83F-49C2-BCBA-DECCAE16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372E-1482-47DA-BF45-9DB7CE2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01F029-F216-4CC7-9AD3-DE03BFA3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BD452-155C-4541-AD26-F2DE26A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69ABB-7643-43B9-80FB-D7D9A6BE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F1F41-E3B6-40CA-B6A5-88CA7A80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05070-3170-4AAB-AA36-2D2E944E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D0C69E-30F4-46C6-BB24-A94AE0CC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8A2817-8C27-4B54-B235-15673553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65EF5-ECEF-48D0-935F-09957692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9AB5F9-A178-434E-B3DE-80F8F56A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30A13-E9F8-4D59-A3F1-574BD2F5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ECE9-12DB-4977-958E-329024D9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0F191-357F-48E2-BB02-F9CA5C97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95A894-D87D-4C0C-9FAF-869F14E9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605227-CAC2-4DF8-AB88-8C78275E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511C6-25B9-45DD-B505-44744788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7758D3-18F1-40D8-94F1-1B408C09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A35DF-CD51-4747-A836-2E0EB59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6F2CE-7D85-427B-8040-948803F6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0EC2CC-1D46-456B-A298-F3344788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D152F-5273-494C-8A9C-ACDA6400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CEF360-C2C6-4AD9-B3E3-C03AD2F4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E1AC-DC39-401C-A496-B61278C0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0D64EA-CF84-4B79-AA45-4228B0D9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0FF023-EE90-4F59-A9F3-F5CF70AC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DDACC-A788-4FD2-AEFE-6628E690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7DD94-CCC6-44A0-8F2E-A057A2AD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E1064B-9FF5-4A13-B3ED-A6C4617E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FDAC8-343F-45DA-BF96-68F8DFF2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631D6-B97B-466E-9F1A-7BFA591B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A82D1B-09C6-4DE7-9D58-201B0BA0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4DB7FA-C9E1-4AD4-AAB5-B521572B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BC5CE8-34A4-42D1-B1A9-BB51B513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7339-058D-45A9-BFD4-846EBAF2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4C8D3-9BF4-4EA1-9056-47CE16A1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C1988E-C387-4D0C-87CC-B1F17D67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8AEA2A-71FF-45D3-80EC-F2262337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197894-22CB-4119-8241-870AEBC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714AD5-F67F-4EAB-A2B7-088AAF5A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C234D-FE16-4338-93C1-BBCFA2E1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47982-6B8D-4DE3-8B4A-E167B6DB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857AE-4032-49F3-B5A6-D23F0A2B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712C6-2A60-49BC-AF80-A70B662D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19C65-AF7E-4B97-9BC3-E9AFEEB2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5B4AB-4FF0-4556-900B-1FA9D795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A6810-16FA-4DC0-8057-CDBB0CBD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5107E-CDB6-4631-8D17-A75DEC8A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4743F-918E-4827-9204-238EEF53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0CBF-2F72-44A0-B0FA-C1C9AE9B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3007-323B-40FD-BD21-8E9FC403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B982-34AD-45B5-8CF7-991F42D6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D38A-41B7-4473-9419-4785617A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3D5-2ACB-45A3-BEBF-E6FCF354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96AB-A863-426C-8B8E-4C04C5D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A2DB1-99A9-4A73-B47E-D9AA8BC9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291F-60D6-412A-9342-D2FA4BF4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B023-8CD4-40CF-9FC6-50E052D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35BD-4495-4F42-A94E-03BE0316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9B89-1E87-49B4-8D1A-9C1CED81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CEB4E-FDC0-4BEC-B2DA-BC367373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3B39F-81A9-4B51-B084-38BFA014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0070F-F467-4FCC-9092-79644157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ED27B-3BD9-41F0-ABA4-D28121CE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BEC-A2F4-4AC2-BA19-C9447D88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15076-3255-430F-969D-50F8F167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39F17-AD51-4060-8974-20FD6A5C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5E541-D634-4D64-A025-2FF8BD6C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83C59-57DD-4AFC-B00C-96386F42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77C4-23E6-46CC-93B2-D1C0A78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E5A7-4F30-4A0A-B7FF-3BA78FD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0A1D-BEEC-40DB-A73E-AA4DD00E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79638-B787-491F-86AA-753B7FD8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9FED0-B6F2-485A-8136-72DA40B3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EBF10-0D4B-4A98-91D1-7A5988CF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B47-B5CE-4765-A738-9930648D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1B04-6BFC-41CC-86CF-5D4E0598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DB3B-7ABA-4A3D-AC8D-93BD75E4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AD34F-2DD1-4101-8F6C-27F6EE77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68155-7354-480D-8861-B3F8199E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96F68-36AC-4024-9FE0-0CDED157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E93ED-1E39-4F44-B232-73F28383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0FA84-A364-45B7-8ED4-126A4818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606FB-67A1-4B2D-996A-6FE4D2F1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CC92-A113-4E4F-A54A-3065DA93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D13DC-7E30-4202-AE54-A6EB59FE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9C6-0423-49BA-909D-777DB428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F312-8657-4C7D-A5C9-3823329F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A91A8-0773-4FF1-882A-4A3B9C2C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495CE-8FC3-4189-91A8-0789AA86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35BB-F42F-42B6-B235-AD6265EA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0FC1A-0C47-4137-B746-35AE72A9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EBB58-8738-4430-ACF7-E022C65B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BBB4A-04EE-46CF-94B5-6FBD9DE6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38589-C216-4ED2-BC75-2E042041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E412C-335E-4A11-8E06-6FE57796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E1C42-8929-4068-A78E-7D960A12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202-C939-4CC5-B8DB-4EBF7BEB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783E5-B101-43B7-B61C-5B56EE53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1E926-7760-4EB4-AE48-F7BD65A3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9358-086F-4AEE-B51F-CCD86B46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5C28A-B7E2-4146-8597-3996C009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7DB4E-AF90-4885-98AB-BC5E195B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F090E-0799-4461-B56F-B8BE43D9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F0679-93D4-44D7-A649-57DEA83C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E790F-6CBB-4B86-8ADB-285E543B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4795-354C-4EC9-A562-8D054E7E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44782-8A8E-436F-8A8F-3A9ED30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2EA-C608-4ECA-8807-ED3EFE97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E82E-F038-49A2-8EB1-1AAB7C7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858F8-5C54-4EE1-992A-489F6E52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CA3B5-063A-46AD-A2E6-5DBBD543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4D8EC-B83A-4200-9B5B-98EA1CBA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3F125-58FB-4237-8182-65333527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B91BC-C327-49EA-96C1-AF8CBF2C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5999E-FC68-4529-B1BD-850F1495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CA941-A7AA-40EF-8230-A4D481AB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06A63-9B17-4F59-AD92-D32B88D6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8DDF8-11EA-4DE5-A0E2-05024193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6BB-9BF7-40AB-AD18-25919CBC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443A2-0886-4DDE-B966-D640C6B6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3F344-6107-49A7-8310-C3646EB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446BB-02CA-4F5F-A4CC-23A8D7C1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078A6-CAFE-491F-95A4-7F302F22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F881C-650C-41AF-9A4B-6EDFADF5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BD376-9D3C-4450-8320-3565B1B0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1A8A5-5C11-489A-9A9B-84916BD5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FFC35-41A8-44BB-A979-415FB870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A021A-6013-43FF-8A44-97B5417E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DFD6E-CAF4-402E-99C6-9CED2038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F476-438D-4BC7-8406-ED130CF3F9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8BC2-04DE-4DD7-A99B-9D12EEF8A9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CDFF-C94A-42AD-A79E-B37A60CA46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4269-894E-4005-B8F0-F667A20A8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9F75-4392-45B4-ABA4-38D9703FF3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36A-6521-4981-B30C-2C036C74BF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7424-F3BF-411A-BC03-E09D89537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285E-F630-47A4-899E-63D7C60085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0E33-D012-46AD-999E-529AA8A2ED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4E90-948C-4928-B9BA-119172003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96A9-66EC-4AA7-B90D-E47021AF2F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F2D6-47FF-4651-A037-793755C538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72FC-655C-4A0A-B6F1-FFA1043E8C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9BF6-1725-4B83-8E78-8A62AF62D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9E09-0FAF-473A-9DA6-48094884B0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6583-E43E-4D8D-8904-E1C1F1CCF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20B4-56C0-4EDE-BE02-64EF782EF2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E720-DFD7-4544-BEF7-011116206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ED5F-234D-4CCE-85FF-5B68FA3A4B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C48B-42DA-43F1-AC17-5DC77B0B81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75AC-A8F4-4549-9E09-463D4B4F27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5FE4-B39C-41D0-B0C6-39C21950D6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756C-A2ED-4ACC-8CB0-EF7602D762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A11F-A318-43D9-956B-CA11ED4240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79D9-251E-4A61-910C-E0C5E06BEA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9E8A-2CD4-4672-970B-A3E09DDA9F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383-8E7A-491F-A1CB-A1D50C229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2313-B430-4435-9B3A-592DA89E05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36E0-0C8A-4AD7-8F4A-B4531756FA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8B44-5AF1-4ABE-9145-3A723F249A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253F-EF90-4414-88DC-C5FE04F851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0219-2FC4-4529-A19B-B5820C1231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A0B-8FBC-4A09-86E0-A35DDF508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8497-26DE-4260-B015-8B7B8862FB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21C7-DB7D-4078-A946-6B1A292129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D55A-780C-417E-B0D6-8A68DDD30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694A-8D0F-414F-961E-10D34F0EFA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B519-E573-4AAE-BEAA-5FE3D4FDF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DFEF-5122-4EAC-B7B3-8E93F82E1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5156-ED73-4727-BAA9-E0665C851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57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69633" descr=""/>
          <p:cNvPicPr/>
          <p:nvPr/>
        </p:nvPicPr>
        <p:blipFill>
          <a:blip r:embed="rId1"/>
          <a:stretch/>
        </p:blipFill>
        <p:spPr>
          <a:xfrm>
            <a:off x="638280" y="819000"/>
            <a:ext cx="78674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8609" descr=""/>
          <p:cNvPicPr/>
          <p:nvPr/>
        </p:nvPicPr>
        <p:blipFill>
          <a:blip r:embed="rId1"/>
          <a:stretch/>
        </p:blipFill>
        <p:spPr>
          <a:xfrm>
            <a:off x="557280" y="2214720"/>
            <a:ext cx="8029440" cy="2428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00000" y="3471840"/>
            <a:ext cx="77756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7775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7585" descr=""/>
          <p:cNvPicPr/>
          <p:nvPr/>
        </p:nvPicPr>
        <p:blipFill>
          <a:blip r:embed="rId1"/>
          <a:stretch/>
        </p:blipFill>
        <p:spPr>
          <a:xfrm>
            <a:off x="619200" y="995400"/>
            <a:ext cx="7905600" cy="48672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468144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826920" y="3443400"/>
            <a:ext cx="468180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826920" y="4019400"/>
            <a:ext cx="4681800" cy="493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662472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00000" y="5286240"/>
            <a:ext cx="66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23920" y="957240"/>
            <a:ext cx="86961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795240" y="2209680"/>
            <a:ext cx="7553520" cy="2438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877080" y="220500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924360" y="2852640"/>
            <a:ext cx="338436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389240" y="4076640"/>
            <a:ext cx="1079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8373" descr=""/>
          <p:cNvPicPr/>
          <p:nvPr/>
        </p:nvPicPr>
        <p:blipFill>
          <a:blip r:embed="rId1"/>
          <a:stretch/>
        </p:blipFill>
        <p:spPr>
          <a:xfrm>
            <a:off x="576360" y="1633680"/>
            <a:ext cx="7991280" cy="3590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3132000" y="30686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4255920" y="4149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148360" y="30830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242040" y="4149720"/>
            <a:ext cx="792000" cy="493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7380360" y="3083040"/>
            <a:ext cx="79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7352" descr=""/>
          <p:cNvPicPr/>
          <p:nvPr/>
        </p:nvPicPr>
        <p:blipFill>
          <a:blip r:embed="rId1"/>
          <a:stretch/>
        </p:blipFill>
        <p:spPr>
          <a:xfrm>
            <a:off x="257040" y="676440"/>
            <a:ext cx="8629920" cy="55051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403280" y="4897440"/>
            <a:ext cx="756144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1116000" y="5530680"/>
            <a:ext cx="7561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6324" descr=""/>
          <p:cNvPicPr/>
          <p:nvPr/>
        </p:nvPicPr>
        <p:blipFill>
          <a:blip r:embed="rId1"/>
          <a:stretch/>
        </p:blipFill>
        <p:spPr>
          <a:xfrm>
            <a:off x="576360" y="1495440"/>
            <a:ext cx="7991280" cy="38671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71640" y="3400560"/>
            <a:ext cx="799308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755640" y="4076640"/>
            <a:ext cx="799308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755640" y="4653000"/>
            <a:ext cx="7993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5300" descr=""/>
          <p:cNvPicPr/>
          <p:nvPr/>
        </p:nvPicPr>
        <p:blipFill>
          <a:blip r:embed="rId1"/>
          <a:stretch/>
        </p:blipFill>
        <p:spPr>
          <a:xfrm>
            <a:off x="666720" y="2200320"/>
            <a:ext cx="7810560" cy="2457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971640" y="3471840"/>
            <a:ext cx="7777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755640" y="4091040"/>
            <a:ext cx="777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4276" descr=""/>
          <p:cNvPicPr/>
          <p:nvPr/>
        </p:nvPicPr>
        <p:blipFill>
          <a:blip r:embed="rId1"/>
          <a:stretch/>
        </p:blipFill>
        <p:spPr>
          <a:xfrm>
            <a:off x="314280" y="1905120"/>
            <a:ext cx="8515440" cy="30477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332000" y="3889440"/>
            <a:ext cx="781200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71640" y="4451400"/>
            <a:ext cx="781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2231" descr=""/>
          <p:cNvPicPr/>
          <p:nvPr/>
        </p:nvPicPr>
        <p:blipFill>
          <a:blip r:embed="rId1"/>
          <a:stretch/>
        </p:blipFill>
        <p:spPr>
          <a:xfrm>
            <a:off x="609480" y="870120"/>
            <a:ext cx="7925040" cy="5438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971640" y="1469880"/>
            <a:ext cx="7777080" cy="493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7777080" cy="4935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777744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898560" y="4538520"/>
            <a:ext cx="777708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898560" y="5129280"/>
            <a:ext cx="777708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826920" y="5705640"/>
            <a:ext cx="7777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2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